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0122-FD5D-44CA-81FC-469EF75B5823}"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859D-FDB9-487E-8128-A9551B0B6F3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55AE-7BE0-4287-A9DA-BD90C97C8AF3}"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92241-29DA-44A6-9478-FD4170543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69AF2-3DBA-4D66-B16B-587CAEF0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F05EC-45CF-41A0-955B-AB081CE2F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B3373-3E1B-4EB3-A13D-DDF9311D5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9D250-700C-4A45-863A-3D95EB38E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F5FAB-FD98-4679-8421-E516B03EB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69089-A54B-42AF-A1B1-7CBAE6029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A7AB2-7406-4864-A715-2FF2ABD46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71B9C-EAE6-41FC-919C-5C965DAD0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EF262-DA51-4F9F-BDED-4C34FCC5E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A7C30-B7FD-439E-9179-1DB46D4FA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7763D-7F0B-4F40-B698-E73C19BEF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E4603-F5DF-489B-8EC2-768E2FF7F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0EE8F-B4C7-4A3E-A786-4AF078A9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B122E-61A8-4E25-98E5-8BAB7E87B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FCAEF-41B0-41D3-9781-642B189B6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E1C9B-CADC-4B25-8F40-58CC7037D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5E543-8164-4F8A-8FF6-38A33B711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CFF21-FC79-4AE2-BE19-C86151EA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6AF32-5FDC-4107-B303-658B69F26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8A0B-8ADF-47D9-A012-901D1AB32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06AC-C108-4D69-A1DD-B0315EC1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FA12-CE9C-43F8-9410-C349C560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03B4-1D22-4323-8E29-606E64E4D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845A-A270-45A0-8461-B51679A4BFCA}"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BB46-5429-4D55-9BE6-D1971E19A222}"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042920"/>
            <a:ext cx="8242200" cy="23655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Jacob Anders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68200"/>
            <a:ext cx="824256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iggering device could be made of a pin with a loop through the pin  and 2 eylets near the arm in resting position. The the pin could slide through the eylets and one on the arm and that would keep it there. Then when the string is pulled it would release the projecti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68200"/>
            <a:ext cx="8242560" cy="115884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create a launch sack out of leather. The leather is lightweight and does not cling to materials unlike suede. I would buy a piece of lleather sew it into a puch and then add 2 pieces of string to i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device would have base made of 2x4s and have 4 2x4s sticking upright from the corners of the pase to support the rail. The rail would have a piece of would with 2 smaller thinner pieces to create a track for the wheels. I would use rollerblade wheels for my wheels. I would have metal tracks for the counter weight to vall on. My arm would be made of wood tapered to a smaller point and have wheels attached to the middle.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298440" y="225360"/>
            <a:ext cx="8242200" cy="115272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signs</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r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ivot Location</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unch Sac</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iggering Devic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ating Arm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inged Counterweight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ating Everything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el/spoke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2720"/>
          </a:xfrm>
          <a:prstGeom prst="rect">
            <a:avLst/>
          </a:prstGeom>
          <a:ln w="0">
            <a:noFill/>
          </a:ln>
        </p:spPr>
      </p:pic>
      <p:sp>
        <p:nvSpPr>
          <p:cNvPr id="96"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
        <p:nvSpPr>
          <p:cNvPr id="97"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98"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fficient when callibrate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nter weight falls straight down</a:t>
            </a:r>
            <a:endParaRPr b="0" lang="en-US" sz="2400" spc="-1" strike="noStrike">
              <a:solidFill>
                <a:srgbClr val="ffffff"/>
              </a:solidFill>
              <a:latin typeface="Book Antiqua"/>
            </a:endParaRPr>
          </a:p>
        </p:txBody>
      </p:sp>
      <p:sp>
        <p:nvSpPr>
          <p:cNvPr id="99"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p in track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fficult to construc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42560" cy="1152720"/>
          </a:xfrm>
          <a:prstGeom prst="rect">
            <a:avLst/>
          </a:prstGeom>
          <a:ln w="0">
            <a:noFill/>
          </a:ln>
        </p:spPr>
      </p:pic>
      <p:sp>
        <p:nvSpPr>
          <p:cNvPr id="101"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02"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103"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asy to buil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re efficient than fixed counterweigh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m Settles faster</a:t>
            </a:r>
            <a:endParaRPr b="0" lang="en-US" sz="2400" spc="-1" strike="noStrike">
              <a:solidFill>
                <a:srgbClr val="ffffff"/>
              </a:solidFill>
              <a:latin typeface="Book Antiqua"/>
            </a:endParaRPr>
          </a:p>
        </p:txBody>
      </p:sp>
      <p:sp>
        <p:nvSpPr>
          <p:cNvPr id="104"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ss potential energy than  fixed counterweigh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tra shock load on the axl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2720"/>
          </a:xfrm>
          <a:prstGeom prst="rect">
            <a:avLst/>
          </a:prstGeom>
          <a:ln w="0">
            <a:noFill/>
          </a:ln>
        </p:spPr>
      </p:pic>
      <p:sp>
        <p:nvSpPr>
          <p:cNvPr id="106"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07"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108"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horter than the floating arm</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all track gap</a:t>
            </a:r>
            <a:endParaRPr b="0" lang="en-US" sz="2400" spc="-1" strike="noStrike">
              <a:solidFill>
                <a:srgbClr val="ffffff"/>
              </a:solidFill>
              <a:latin typeface="Book Antiqua"/>
            </a:endParaRPr>
          </a:p>
        </p:txBody>
      </p:sp>
      <p:sp>
        <p:nvSpPr>
          <p:cNvPr id="109"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re derailmen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m may hit the track</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2720"/>
          </a:xfrm>
          <a:prstGeom prst="rect">
            <a:avLst/>
          </a:prstGeom>
          <a:ln w="0">
            <a:noFill/>
          </a:ln>
        </p:spPr>
      </p:pic>
      <p:sp>
        <p:nvSpPr>
          <p:cNvPr id="111"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12"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
        <p:nvSpPr>
          <p:cNvPr id="113"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y Adjustab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ssible long arm</a:t>
            </a:r>
            <a:endParaRPr b="0" lang="en-US" sz="2400" spc="-1" strike="noStrike">
              <a:solidFill>
                <a:srgbClr val="ffffff"/>
              </a:solidFill>
              <a:latin typeface="Book Antiqua"/>
            </a:endParaRPr>
          </a:p>
        </p:txBody>
      </p:sp>
      <p:sp>
        <p:nvSpPr>
          <p:cNvPr id="114"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avy wheel</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od</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tal</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lf club shafts</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rbon fib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els on a track start and end is at the mid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3:31:35Z</dcterms:created>
  <dc:creator>BPS</dc:creator>
  <dc:description/>
  <dc:language>en-US</dc:language>
  <cp:lastModifiedBy>BPS</cp:lastModifiedBy>
  <dcterms:modified xsi:type="dcterms:W3CDTF">2011-10-13T16:22:42Z</dcterms:modified>
  <cp:revision>16</cp:revision>
  <dc:subject/>
  <dc:title>Building Design Portfolio: Storm the Castle</dc:title>
</cp:coreProperties>
</file>